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45A-63B5-42AB-8527-9EA356E2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EF7-26E7-4ABF-92AB-651FF733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0AF-E288-4623-9510-95B3947A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FB9-86E9-4E02-88EC-10ABAD68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2DBF-22F6-4C9D-8681-62247EFD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E5C3-EFB3-4007-B5CB-30984D2E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4C5D-485F-4EF4-90E4-56EFEF44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0626-9971-4EA1-BC75-6C028E77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90A1-AECD-4025-9992-6B3A5C62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334C-7B42-46CE-BD0A-F0CBA97A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663F-155D-4D07-AAAB-4E79F3ED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3AA-FDFF-485B-8FAB-2DCC6AA0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C209-F9F8-4518-AAE5-98939460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EF45-6AC7-46F3-B421-26CD6BE5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541A-9D81-4CDF-A416-631F8953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2528-F3AF-4CD6-BA7A-5C5D7F32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4F1C-26FE-4586-9093-DB5C8A10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6BD-B06F-4C9F-9F3A-DAD766C4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0FB-796D-4489-93B5-C06FBAFF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1AB-E3E8-469F-9E71-38937710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554-28F3-4AEA-87A9-44BBE132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A65-BD69-49DB-A528-068C7660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6085-A576-43FE-91E0-BE8834EB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84B-9524-464E-8F62-9F302256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D9DC-2033-4531-84AA-4C0543F9C09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384A-B8C0-4327-8D99-5927BD3076F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Impact"/>
              </a:rPr>
              <a:t>Vertebrate Classes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4186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Integument (Body Covering)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Scale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4186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Skeleton Component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Cartilage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4186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Body Temperature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Ectotherm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Chondrichthyes (examples)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Shark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Ray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267080" cy="2844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066680" y="4070520"/>
            <a:ext cx="373392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Osteichthyes (Bony Fishes)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4186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Integument (Body Covering)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Scale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4186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Skeleton Component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Bone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8960" y="4186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Body Temperature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Ectotherm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Osteichthyes (examples)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3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Goldfish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Salmon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Tuna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Trout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248520" y="1981080"/>
            <a:ext cx="2590560" cy="1855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019920" y="4267080"/>
            <a:ext cx="3047760" cy="2032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00400" y="3797280"/>
            <a:ext cx="25909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Amphibia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Impact"/>
              </a:rPr>
              <a:t>Definitions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ffffff"/>
                </a:solidFill>
                <a:uFillTx/>
                <a:latin typeface="Impact"/>
              </a:rPr>
              <a:t>Ectotherm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- body temperature is approximately that of the environment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291600" indent="-291600">
              <a:lnSpc>
                <a:spcPct val="90000"/>
              </a:lnSpc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ffffff"/>
                </a:solidFill>
                <a:uFillTx/>
                <a:latin typeface="Impact"/>
              </a:rPr>
              <a:t>Endotherm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- body temperature is maintained internally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291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Integument (Body Covering)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moist skin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Skeleton Component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Bone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Body Temperature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Ectotherm 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Other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born in or near water but usually live their adult life on land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Amphibia (examples)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Frog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Toad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Salamander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047760" cy="2200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Reptilia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Integument (Body Covering)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Scale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Skeleton Component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Bone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Body Temperature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Ectotherm 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Other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turtles do not have teeth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most snakes are not   poisonou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Agnatha   (Jawless Fishes)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Reptilia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Turtle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Snake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Lizard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Crocodile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800600" y="4724280"/>
            <a:ext cx="2666880" cy="1925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095880" y="2627280"/>
            <a:ext cx="2706840" cy="2021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rcRect l="0" t="0" r="0" b="7072"/>
          <a:stretch/>
        </p:blipFill>
        <p:spPr>
          <a:xfrm>
            <a:off x="3657600" y="228600"/>
            <a:ext cx="3733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Mammalia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Integument (Body Covering)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Hair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Skeleton Component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Bone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Body Temperature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Endotherm 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Other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produce milk (females)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most give birth to live young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Mammalia 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Human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Whal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Kangaroo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Elephan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B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26016" t="15376" r="14012" b="0"/>
          <a:stretch/>
        </p:blipFill>
        <p:spPr>
          <a:xfrm>
            <a:off x="6629400" y="0"/>
            <a:ext cx="2286000" cy="3354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rcRect l="16851" t="8381" r="11328" b="5202"/>
          <a:stretch/>
        </p:blipFill>
        <p:spPr>
          <a:xfrm>
            <a:off x="3429000" y="3060720"/>
            <a:ext cx="49528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Aves (birds)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Integument (Body Covering)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Feather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Scales on feet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Skeleton Component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Bone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Integument (Body Covering)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Nothing (not even scales)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Body Temperature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Endotherm 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Other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Do not have teeth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Aves 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125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Hummingbird</a:t>
            </a:r>
            <a:endParaRPr b="0" lang="en-US" sz="45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1125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Penguin</a:t>
            </a:r>
            <a:endParaRPr b="0" lang="en-US" sz="45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1125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Ostrich</a:t>
            </a:r>
            <a:endParaRPr b="0" lang="en-US" sz="45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1125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Blue jay</a:t>
            </a:r>
            <a:endParaRPr b="0" lang="en-US" sz="45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800600" y="3962520"/>
            <a:ext cx="3809880" cy="2751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2381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015480" cy="5486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0"/>
            <a:ext cx="114300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791320"/>
            <a:ext cx="1295280" cy="11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Skeleton Component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Cartilage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Body Temperature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Ectotherm 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ffff"/>
                </a:solidFill>
                <a:latin typeface="Comic Sans MS"/>
              </a:rPr>
              <a:t>Other</a:t>
            </a:r>
            <a:endParaRPr b="0" lang="en-US" sz="45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no fins or tail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most are internal or external parasites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Agnatha (examples)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lamprey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hagfish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7400" y="4038480"/>
            <a:ext cx="50864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Chondrichthyes</a:t>
            </a:r>
            <a:br>
              <a:rPr sz="5000"/>
            </a:br>
            <a:r>
              <a:rPr b="0" lang="en-US" sz="5000" spc="-1" strike="noStrike">
                <a:solidFill>
                  <a:srgbClr val="ccffff"/>
                </a:solidFill>
                <a:latin typeface="Impact"/>
              </a:rPr>
              <a:t> (Cartilage Fishes)</a:t>
            </a:r>
            <a:endParaRPr b="0" lang="en-US" sz="5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8:06:20Z</dcterms:created>
  <dc:creator>Type your name here</dc:creator>
  <dc:description/>
  <dc:language>en-US</dc:language>
  <cp:lastModifiedBy>Plano ISD</cp:lastModifiedBy>
  <dcterms:modified xsi:type="dcterms:W3CDTF">2006-02-02T18:58:05Z</dcterms:modified>
  <cp:revision>16</cp:revision>
  <dc:subject/>
  <dc:title>Vertebrate Classes</dc:title>
</cp:coreProperties>
</file>